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5EE-9768-45C9-87D0-C7F66D11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BEE-8CDC-48CD-8937-929A25DE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16E-996C-4092-9024-86AF021C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B5D-3F85-4307-85E8-A1471BD2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02E-83C4-49B7-A9D0-7465A247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ACF-0BDE-480E-9CA7-2C213D74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B47-CC6C-42E3-AEA6-D95DDB67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BA2-F573-4E32-AA0D-83DCA8AB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E71-0CA8-411D-8194-88292EE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27E-33BB-48BF-88C0-C6F3DF6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78A-B25D-4DF6-94D7-07FB8E1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3DE-C82A-4DCE-992B-2132D4D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6E9B-146F-4019-8A02-56A6E3B6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1360"/>
            <a:ext cx="84502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ffff"/>
                </a:solidFill>
                <a:latin typeface="Comic Sans MS"/>
              </a:rPr>
              <a:t>krucible Example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6880" y="4573080"/>
            <a:ext cx="66168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tivities and Simulations for VASTS physics cor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3555720"/>
            <a:ext cx="96660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On the lower right hand side of the screen, you will see a graph of Y position vs X position.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The blue and green pencils are tracing the motion of Balls #1 and #2. What do you think is going to happen after these balls have completed their rotations around the gravity well?</a:t>
            </a:r>
            <a:br>
              <a:rPr sz="19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Press the play button again, and wait until the time reads 30.0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33720" y="406440"/>
            <a:ext cx="5613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3454560"/>
            <a:ext cx="966600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30.0 seconds, your position graph should look similar to the above image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y do you think the green line, representing Ball #1, forms such a consistent ellipse as compared to the blue line (Ball #2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35240" y="304920"/>
            <a:ext cx="56642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320" y="650232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f you want to reset the activity to try changing some values, click the Return Arrow on the right side of the scree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203040"/>
            <a:ext cx="6095880" cy="61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Simulation Demonstr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rucible also has an incredible number of simulations that are designed to compare small differences in initial condi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se simulations typically have their graphing options pre-configured for multiple analy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e will go through a simulation that's very similar to the previously completed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eturn to the krucible main screen, and click on "SIMULATION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34196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on "ENERG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41760" y="200160"/>
            <a:ext cx="38480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6160" y="6603480"/>
            <a:ext cx="9666000" cy="7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e will be working with </a:t>
            </a: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Energy Simulation #16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utilizing "three objects in different orbits". Similar simulations are highlighted here as wel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36840" y="201600"/>
            <a:ext cx="4151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320" y="6298920"/>
            <a:ext cx="9666360" cy="10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three masses begin in orbits that are increasingly larger distances away from the gravity well</a:t>
            </a:r>
            <a:br>
              <a:rPr sz="2100"/>
            </a:b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    What do you shape will each of the orbits look like?  Hit play and pause after 5.0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743200" y="203040"/>
            <a:ext cx="398952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320" y="6501960"/>
            <a:ext cx="9666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5.0s, the 3 balls should be in a similar set of positions as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0402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320" y="3759120"/>
            <a:ext cx="966636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graph on the right side of the screen shows Distance from the gravity well vs Tim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on "Maximize Graph Screen" to view other graphs of this mo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727280" y="507960"/>
            <a:ext cx="66420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art krucible and click on "Activitie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06440"/>
            <a:ext cx="424512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6700680"/>
            <a:ext cx="9667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 different graphs of the particles' motion should now be sh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203040"/>
            <a:ext cx="84297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309600"/>
            <a:ext cx="9667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turn to the Simulation Screen by clicking on "Minimize Full-Screen View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do you think will happen if the Balls are set in motion for a longer period of tim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ill the sinusoidal nature of the velocity and position graphs continu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it play again and pause after 25.0s have elaps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320" y="670572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at is the difference between the green graph and the red graph? 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Do you notice a secondary pattern emerging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203040"/>
            <a:ext cx="874548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note of the velocity vector direc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40160" y="203040"/>
            <a:ext cx="410364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ceed to click on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41680" y="203040"/>
            <a:ext cx="436392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n click on "Activity 15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6840" y="203040"/>
            <a:ext cx="4060800" cy="64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6700680"/>
            <a:ext cx="9667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will see 4 points of mass centered around a gray gravit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203040"/>
            <a:ext cx="431172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320" y="6299280"/>
            <a:ext cx="966636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If you click on the Red Dot labeled "Toggle Position Arrow", the Velocity and Acceleration vectors of Ball #1 will appear. Notice their directions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38280" y="203040"/>
            <a:ext cx="38941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320" y="6299280"/>
            <a:ext cx="9666360" cy="66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Click on "Next" to cycle through the 4 balls, and activate the Velocity and Acceleration vectors for each. Your simulation screen should match the above imag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38280" y="203040"/>
            <a:ext cx="391500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6160" y="6502320"/>
            <a:ext cx="966600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ess the "Play" button, then when 5.0seconds have elapsed, press the "Play" button agai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4043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920" y="6400440"/>
            <a:ext cx="966636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happened to Balls #3 and #4?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id the motion of Ball #1 and Ball #2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39880" y="201600"/>
            <a:ext cx="400212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